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4AC-7C1B-40CC-9CCE-9F41173C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267-4A01-426F-87EB-E3CF9E8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C5D-8BC1-44AA-A815-14BCA829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E15-AD77-45CD-8A9A-8FD2C60A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74C-ABC7-4A89-8165-E33F5EE8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1E7-A714-4876-9637-C1ACA79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FAC-7361-4B52-8471-324711FA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131-1402-4C4D-9F8F-89E9030D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6F7-DFF4-45B1-9C04-E78D609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CF6-5283-4696-9981-EEB6897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2E9-D974-4749-890D-89E0004D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9F2-3D64-4E24-9460-BEEF8F6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5F4-54EC-46A4-8E19-2DDFB3A6B7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dfd293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>
            <a:alphaModFix amt="92000"/>
          </a:blip>
          <a:stretch/>
        </p:blipFill>
        <p:spPr>
          <a:xfrm>
            <a:off x="5181480" y="1752480"/>
            <a:ext cx="565200" cy="709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29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29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9T11:14:2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